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579-D6F8-4923-BC0F-3F957EF086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37E-FC20-4305-9782-D0F5B17F82B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7011-0E2B-4675-BD12-87ED8643910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B99D-1A90-482D-8A0F-1D540C9B4A2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lling is critical – particularly watch for mixups with o and 0; 1 and l; B and 8; _ and -; 9 &amp; g; b and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729-952A-4BA3-BF17-769BACE0D13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me messages are better conveyed personally.  (Or at least get a read rece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BFB-2465-4FEA-B56C-9C827800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BC1-BC92-4C5D-A70D-BEE2C89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FDE-82F3-4CDA-A412-5946C90C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1A9-5DEC-45ED-A15E-61AFD923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4A7-9FDF-48AC-977C-B2CA2831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024-9258-4B6B-B564-F56DC367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AF6-BB3B-45B3-9522-E2AA817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350-49BF-465A-9731-12ECB07B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4DF-28D1-4DED-A387-C669EF87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275-15DA-40A0-BC7E-35FEE62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ECC-C3FD-4306-8C4E-2541563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94E-65A6-4DCE-8ED2-E316379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114-D492-42EC-A0CE-D9182C18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Em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371600" cy="1197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539640" y="4653000"/>
            <a:ext cx="7918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Savvy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Notched Right Arrow 3"/>
          <p:cNvSpPr/>
          <p:nvPr/>
        </p:nvSpPr>
        <p:spPr>
          <a:xfrm rot="17505000">
            <a:off x="1391040" y="3328200"/>
            <a:ext cx="1349280" cy="541440"/>
          </a:xfrm>
          <a:custGeom>
            <a:avLst/>
            <a:gdLst>
              <a:gd name="textAreaLeft" fmla="*/ 161280 w 1349280"/>
              <a:gd name="textAreaRight" fmla="*/ 1188000 w 1349280"/>
              <a:gd name="textAreaTop" fmla="*/ 135360 h 541440"/>
              <a:gd name="textAreaBottom" fmla="*/ 406080 h 5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29" y="5400"/>
                </a:lnTo>
                <a:lnTo>
                  <a:pt x="16429" y="0"/>
                </a:lnTo>
                <a:lnTo>
                  <a:pt x="21600" y="10800"/>
                </a:lnTo>
                <a:lnTo>
                  <a:pt x="16429" y="21600"/>
                </a:lnTo>
                <a:lnTo>
                  <a:pt x="16429" y="16200"/>
                </a:lnTo>
                <a:lnTo>
                  <a:pt x="0" y="16200"/>
                </a:lnTo>
                <a:lnTo>
                  <a:pt x="25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Notched Right Arrow 12"/>
          <p:cNvSpPr/>
          <p:nvPr/>
        </p:nvSpPr>
        <p:spPr>
          <a:xfrm>
            <a:off x="3924360" y="1974960"/>
            <a:ext cx="1349280" cy="539640"/>
          </a:xfrm>
          <a:custGeom>
            <a:avLst/>
            <a:gdLst>
              <a:gd name="textAreaLeft" fmla="*/ 160920 w 1349280"/>
              <a:gd name="textAreaRight" fmla="*/ 1188360 w 134928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44" y="5400"/>
                </a:lnTo>
                <a:lnTo>
                  <a:pt x="16444" y="0"/>
                </a:lnTo>
                <a:lnTo>
                  <a:pt x="21600" y="10800"/>
                </a:lnTo>
                <a:lnTo>
                  <a:pt x="16444" y="21600"/>
                </a:lnTo>
                <a:lnTo>
                  <a:pt x="16444" y="16200"/>
                </a:lnTo>
                <a:lnTo>
                  <a:pt x="0" y="16200"/>
                </a:lnTo>
                <a:lnTo>
                  <a:pt x="25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Notched Right Arrow 13"/>
          <p:cNvSpPr/>
          <p:nvPr/>
        </p:nvSpPr>
        <p:spPr>
          <a:xfrm rot="6852000">
            <a:off x="5629680" y="3425040"/>
            <a:ext cx="1347840" cy="540000"/>
          </a:xfrm>
          <a:custGeom>
            <a:avLst/>
            <a:gdLst>
              <a:gd name="textAreaLeft" fmla="*/ 160920 w 1347840"/>
              <a:gd name="textAreaRight" fmla="*/ 1186920 w 13478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8" y="5400"/>
                </a:lnTo>
                <a:lnTo>
                  <a:pt x="16438" y="0"/>
                </a:lnTo>
                <a:lnTo>
                  <a:pt x="21600" y="10800"/>
                </a:lnTo>
                <a:lnTo>
                  <a:pt x="16438" y="21600"/>
                </a:lnTo>
                <a:lnTo>
                  <a:pt x="16438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1066680" y="4622760"/>
            <a:ext cx="998640" cy="47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779400" y="5199120"/>
            <a:ext cx="1609920" cy="45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MCj04247920000[1]"/>
          <p:cNvPicPr/>
          <p:nvPr/>
        </p:nvPicPr>
        <p:blipFill>
          <a:blip r:embed="rId3"/>
          <a:stretch/>
        </p:blipFill>
        <p:spPr>
          <a:xfrm>
            <a:off x="2171880" y="1617840"/>
            <a:ext cx="102996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8" descr="MCj04247920000[1]"/>
          <p:cNvPicPr/>
          <p:nvPr/>
        </p:nvPicPr>
        <p:blipFill>
          <a:blip r:embed="rId4"/>
          <a:stretch/>
        </p:blipFill>
        <p:spPr>
          <a:xfrm>
            <a:off x="6311880" y="1617840"/>
            <a:ext cx="1030320" cy="1123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7"/>
          <p:cNvSpPr/>
          <p:nvPr/>
        </p:nvSpPr>
        <p:spPr>
          <a:xfrm>
            <a:off x="5050800" y="4599000"/>
            <a:ext cx="1335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Bo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7"/>
          <p:cNvSpPr/>
          <p:nvPr/>
        </p:nvSpPr>
        <p:spPr>
          <a:xfrm>
            <a:off x="19875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7"/>
          <p:cNvSpPr/>
          <p:nvPr/>
        </p:nvSpPr>
        <p:spPr>
          <a:xfrm>
            <a:off x="58683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Notched Right Arrow 3"/>
          <p:cNvSpPr/>
          <p:nvPr/>
        </p:nvSpPr>
        <p:spPr>
          <a:xfrm rot="17505000">
            <a:off x="1391040" y="3328200"/>
            <a:ext cx="1349280" cy="541440"/>
          </a:xfrm>
          <a:custGeom>
            <a:avLst/>
            <a:gdLst>
              <a:gd name="textAreaLeft" fmla="*/ 161280 w 1349280"/>
              <a:gd name="textAreaRight" fmla="*/ 1188000 w 1349280"/>
              <a:gd name="textAreaTop" fmla="*/ 135360 h 541440"/>
              <a:gd name="textAreaBottom" fmla="*/ 406080 h 5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29" y="5400"/>
                </a:lnTo>
                <a:lnTo>
                  <a:pt x="16429" y="0"/>
                </a:lnTo>
                <a:lnTo>
                  <a:pt x="21600" y="10800"/>
                </a:lnTo>
                <a:lnTo>
                  <a:pt x="16429" y="21600"/>
                </a:lnTo>
                <a:lnTo>
                  <a:pt x="16429" y="16200"/>
                </a:lnTo>
                <a:lnTo>
                  <a:pt x="0" y="16200"/>
                </a:lnTo>
                <a:lnTo>
                  <a:pt x="25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Notched Right Arrow 12"/>
          <p:cNvSpPr/>
          <p:nvPr/>
        </p:nvSpPr>
        <p:spPr>
          <a:xfrm>
            <a:off x="3924360" y="1974960"/>
            <a:ext cx="1349280" cy="539640"/>
          </a:xfrm>
          <a:custGeom>
            <a:avLst/>
            <a:gdLst>
              <a:gd name="textAreaLeft" fmla="*/ 160920 w 1349280"/>
              <a:gd name="textAreaRight" fmla="*/ 1188360 w 134928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44" y="5400"/>
                </a:lnTo>
                <a:lnTo>
                  <a:pt x="16444" y="0"/>
                </a:lnTo>
                <a:lnTo>
                  <a:pt x="21600" y="10800"/>
                </a:lnTo>
                <a:lnTo>
                  <a:pt x="16444" y="21600"/>
                </a:lnTo>
                <a:lnTo>
                  <a:pt x="16444" y="16200"/>
                </a:lnTo>
                <a:lnTo>
                  <a:pt x="0" y="16200"/>
                </a:lnTo>
                <a:lnTo>
                  <a:pt x="25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Notched Right Arrow 13"/>
          <p:cNvSpPr/>
          <p:nvPr/>
        </p:nvSpPr>
        <p:spPr>
          <a:xfrm rot="6852000">
            <a:off x="5629680" y="3425040"/>
            <a:ext cx="1347840" cy="540000"/>
          </a:xfrm>
          <a:custGeom>
            <a:avLst/>
            <a:gdLst>
              <a:gd name="textAreaLeft" fmla="*/ 160920 w 1347840"/>
              <a:gd name="textAreaRight" fmla="*/ 1186920 w 13478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8" y="5400"/>
                </a:lnTo>
                <a:lnTo>
                  <a:pt x="16438" y="0"/>
                </a:lnTo>
                <a:lnTo>
                  <a:pt x="21600" y="10800"/>
                </a:lnTo>
                <a:lnTo>
                  <a:pt x="16438" y="21600"/>
                </a:lnTo>
                <a:lnTo>
                  <a:pt x="16438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1"/>
          <a:stretch/>
        </p:blipFill>
        <p:spPr>
          <a:xfrm>
            <a:off x="1066680" y="4622760"/>
            <a:ext cx="998640" cy="4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2"/>
          <a:stretch/>
        </p:blipFill>
        <p:spPr>
          <a:xfrm>
            <a:off x="779400" y="5199120"/>
            <a:ext cx="1609920" cy="45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MCj04247920000[1]"/>
          <p:cNvPicPr/>
          <p:nvPr/>
        </p:nvPicPr>
        <p:blipFill>
          <a:blip r:embed="rId3"/>
          <a:stretch/>
        </p:blipFill>
        <p:spPr>
          <a:xfrm>
            <a:off x="2171880" y="1617840"/>
            <a:ext cx="1029960" cy="11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8" descr="MCj04247920000[1]"/>
          <p:cNvPicPr/>
          <p:nvPr/>
        </p:nvPicPr>
        <p:blipFill>
          <a:blip r:embed="rId4"/>
          <a:stretch/>
        </p:blipFill>
        <p:spPr>
          <a:xfrm>
            <a:off x="6311880" y="1617840"/>
            <a:ext cx="1030320" cy="1123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7"/>
          <p:cNvSpPr/>
          <p:nvPr/>
        </p:nvSpPr>
        <p:spPr>
          <a:xfrm>
            <a:off x="5050800" y="4599000"/>
            <a:ext cx="1335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Bo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7"/>
          <p:cNvSpPr/>
          <p:nvPr/>
        </p:nvSpPr>
        <p:spPr>
          <a:xfrm>
            <a:off x="7350840" y="4325760"/>
            <a:ext cx="1121040" cy="36828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7"/>
          <p:cNvSpPr/>
          <p:nvPr/>
        </p:nvSpPr>
        <p:spPr>
          <a:xfrm>
            <a:off x="7346880" y="5470560"/>
            <a:ext cx="1239840" cy="91692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lient emai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Notched Right Arrow 22"/>
          <p:cNvSpPr/>
          <p:nvPr/>
        </p:nvSpPr>
        <p:spPr>
          <a:xfrm rot="20340600">
            <a:off x="6463800" y="4592160"/>
            <a:ext cx="836640" cy="540000"/>
          </a:xfrm>
          <a:custGeom>
            <a:avLst/>
            <a:gdLst>
              <a:gd name="textAreaLeft" fmla="*/ 160920 w 836640"/>
              <a:gd name="textAreaRight" fmla="*/ 675720 w 836640"/>
              <a:gd name="textAreaTop" fmla="*/ 135000 h 540000"/>
              <a:gd name="textAreaBottom" fmla="*/ 405000 h 5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84" y="5400"/>
                </a:ln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13284" y="16200"/>
                </a:lnTo>
                <a:lnTo>
                  <a:pt x="0" y="16200"/>
                </a:lnTo>
                <a:lnTo>
                  <a:pt x="41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Notched Right Arrow 23"/>
          <p:cNvSpPr/>
          <p:nvPr/>
        </p:nvSpPr>
        <p:spPr>
          <a:xfrm rot="1696200">
            <a:off x="6454440" y="5405040"/>
            <a:ext cx="836640" cy="539640"/>
          </a:xfrm>
          <a:custGeom>
            <a:avLst/>
            <a:gdLst>
              <a:gd name="textAreaLeft" fmla="*/ 160920 w 836640"/>
              <a:gd name="textAreaRight" fmla="*/ 675720 w 83664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84" y="5400"/>
                </a:ln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13284" y="16200"/>
                </a:lnTo>
                <a:lnTo>
                  <a:pt x="0" y="16200"/>
                </a:lnTo>
                <a:lnTo>
                  <a:pt x="41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c9cdf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7"/>
          <p:cNvSpPr/>
          <p:nvPr/>
        </p:nvSpPr>
        <p:spPr>
          <a:xfrm>
            <a:off x="19875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7"/>
          <p:cNvSpPr/>
          <p:nvPr/>
        </p:nvSpPr>
        <p:spPr>
          <a:xfrm>
            <a:off x="5868360" y="703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e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765000"/>
          <a:ext cx="8351640" cy="5585040"/>
        </p:xfrm>
        <a:graphic>
          <a:graphicData uri="http://schemas.openxmlformats.org/drawingml/2006/table">
            <a:tbl>
              <a:tblPr/>
              <a:tblGrid>
                <a:gridCol w="4103640"/>
                <a:gridCol w="4248000"/>
              </a:tblGrid>
              <a:tr h="5585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b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SP’s h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free ones – eg Gmail, Hotmail, Live mail, Yahoo 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via Internet 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s stay at the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s are stored on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antivirus, anti sp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back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from any internet de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: Buckets of storage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UST be online to use 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mail does have offline facilit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ient Email Pro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 on your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utlook,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look Express, Windows Mail, Thunderbird, Incredi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connection set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work on off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Emails are stored on ONE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ontacts stored on your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 have to manage spam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You manage back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ccess from ONE 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539640" y="836640"/>
            <a:ext cx="2448000" cy="719280"/>
          </a:xfrm>
          <a:prstGeom prst="wedgeRectCallout">
            <a:avLst>
              <a:gd name="adj1" fmla="val 29791"/>
              <a:gd name="adj2" fmla="val 110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i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268360" y="19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2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company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3132000" y="836640"/>
            <a:ext cx="792360" cy="719280"/>
          </a:xfrm>
          <a:prstGeom prst="wedgeRectCallout">
            <a:avLst>
              <a:gd name="adj1" fmla="val 8115"/>
              <a:gd name="adj2" fmla="val 11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4067280" y="836640"/>
            <a:ext cx="4249800" cy="719280"/>
          </a:xfrm>
          <a:prstGeom prst="wedgeRectCallout">
            <a:avLst>
              <a:gd name="adj1" fmla="val -31171"/>
              <a:gd name="adj2" fmla="val 123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P or web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826920" y="278136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address always contains ‘@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ny spaces. Never a full stop at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unique. NOT 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spelling is vital (0/O; 1/I; B/8; _/-; 9/g; b/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1 or more email address free with you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multiple emai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To, CC, BCC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O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Main person(s) to act on, be in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C: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bon Copy – who else should know about. They are not required to ac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BCC: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Blind Carbon Co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and CC recipients don’t know about B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CC recipient sees TO and 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body sees the BCC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eat for forwarding jok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Didn't you get my email"/>
          <p:cNvPicPr/>
          <p:nvPr/>
        </p:nvPicPr>
        <p:blipFill>
          <a:blip r:embed="rId1"/>
          <a:stretch/>
        </p:blipFill>
        <p:spPr>
          <a:xfrm>
            <a:off x="1476360" y="189000"/>
            <a:ext cx="6299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38:08Z</dcterms:created>
  <dc:creator>KH</dc:creator>
  <dc:description/>
  <dc:language>en-US</dc:language>
  <cp:lastModifiedBy>Keith</cp:lastModifiedBy>
  <dcterms:modified xsi:type="dcterms:W3CDTF">2014-01-28T02:23:50Z</dcterms:modified>
  <cp:revision>106</cp:revision>
  <dc:subject/>
  <dc:title>Intro to the Course</dc:title>
</cp:coreProperties>
</file>